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FAB-1723-43AF-9849-347E11C4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5D5-A96E-4D44-B2CA-4F407AA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C7E-3401-47D1-9C3B-8C5BD74E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15A-FF11-444F-95DD-51926031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AE5-DE77-481B-BCC8-8694B5C9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7A3-A2B5-46BE-8D81-5F2DB517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F99-A534-4955-8E80-6AC3D2F8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3E68-F87D-4C90-909D-7036A471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E0A-A8B2-4885-BB61-9AA32CE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BFC1-1CBA-4666-8F46-654B2542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C775-6750-4776-80B2-576368B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8E9-988B-4AC7-A7B9-C63A36A7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3E2C-0AEB-4558-B0F7-A5E9297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BD6B-C0F5-49AC-B5B8-EDB7768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9991-0686-4403-A00F-1369C13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ECB-3EC7-4BC8-BF54-770637DE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569-05A9-442A-A5B2-B731E30F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A5F-9B5A-4BF4-8863-9B4873E5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B26-201A-4D89-B127-65BFDF7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416-77FF-470B-B24B-F2999CA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DD3-1AA0-47CC-9725-0576779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D88-17C1-4E2B-A6D6-AC36E26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014-B61E-49CD-ADB8-9AE43CF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BD6-7762-43C5-AC59-51DD1C3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52E0-2487-42ED-8833-AD4F74CA65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631-9C38-48BA-B14A-EDDFE93313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chool.discoveryeducation.com/clipart/clip/cutflowr.html" TargetMode="External"/><Relationship Id="rId3" Type="http://schemas.openxmlformats.org/officeDocument/2006/relationships/hyperlink" Target="http://school.discoveryeducation.com/clipart/clip/cutflowr.html" TargetMode="External"/><Relationship Id="rId4" Type="http://schemas.openxmlformats.org/officeDocument/2006/relationships/hyperlink" Target="http://school.discoveryeducation.com/clipart/clip/cutflowr.html" TargetMode="External"/><Relationship Id="rId5" Type="http://schemas.openxmlformats.org/officeDocument/2006/relationships/hyperlink" Target="http://school.discoveryeducation.com/clipart/clip/cutflowr.html" TargetMode="External"/><Relationship Id="rId6" Type="http://schemas.openxmlformats.org/officeDocument/2006/relationships/hyperlink" Target="http://school.discoveryeducation.com/clipart/clip/cutflowr.html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logy4kid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ant Reprodu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0760" y="6172200"/>
            <a:ext cx="70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 courtesy of </a:t>
            </a:r>
            <a:r>
              <a:rPr b="0" lang="en-AU" sz="1800" spc="-1" strike="noStrike">
                <a:solidFill>
                  <a:srgbClr val="003366"/>
                </a:solidFill>
                <a:latin typeface="Arial"/>
              </a:rPr>
              <a:t>http://plants.ifas.ufl.edu/images/rheali/rheali4.jp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617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nly way a species can survive is if more individuals of the same species are constantly being produc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oduction is a chain of events that leads to the creation of one or more new individual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ll living things reproduce in the same way.  There are two types of reproduction: asexual and sexu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sexual 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new organism is produced from one parent organism. A new cell is formed by splitting of an old one to make a copy or a clone.  The only variation in what they look like is due to the environment they grow up in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types of asexual reproduction are: fission, budding, spores, fragmentation followed by regener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 mushroom can reproduce asexu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94200" cy="2073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71160" y="6491160"/>
            <a:ext cx="69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cture courtesy of </a:t>
            </a:r>
            <a:r>
              <a:rPr b="0" lang="en-AU" sz="1800" spc="-1" strike="noStrike">
                <a:solidFill>
                  <a:srgbClr val="003366"/>
                </a:solidFill>
                <a:latin typeface="Arial"/>
              </a:rPr>
              <a:t>http://plants.ifas.ufl.edu/images/lacind/lacind.jp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Sexual Re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when two cells each with half the DNA combine and create a living cell.  When plants hit a point in evolution, sexual reproduction occurs more ofte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two sex cells may come from one individual organism or two parent organisms of different sex. The two sex cells are called gametes which fuse together to form a zygote, which divides to form a new organis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xual reproduction causes variation in the offspring. This variation means that organisms have more of a chance of surviving in changing condi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147840" cy="129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360" y="6515280"/>
            <a:ext cx="84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mage courtesy of </a:t>
            </a:r>
            <a:r>
              <a:rPr b="0" lang="en-AU" sz="1600" spc="-1" strike="noStrike">
                <a:solidFill>
                  <a:srgbClr val="003366"/>
                </a:solidFill>
                <a:latin typeface="Arial"/>
              </a:rPr>
              <a:t>http://www.bbc.co.uk/schools/gcsebitesize/science/images/9_sex_cells.gi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t of plants reproduce sexually.  The female gametes are in the ovaries of a plant in a structure called an ovule.  Male gametes are produced in the anthers and are found inside pollen gra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 pollination is when the pollen is transferred to the stigma on the same pla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oss pollination is when pollen is transferred from one flower to anoth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533680" cy="218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"Clip art licensed from the Clip Art Gallery on DiscoverySchool.com" 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2"/>
              </a:rPr>
              <a:t>http://school.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3"/>
              </a:rPr>
              <a:t>discoveryeducation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4"/>
              </a:rPr>
              <a:t>.com/clipart/clip/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5"/>
              </a:rPr>
              <a:t>cutflowr</a:t>
            </a:r>
            <a:r>
              <a:rPr b="0" lang="en-A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6"/>
              </a:rPr>
              <a:t>.html</a:t>
            </a:r>
            <a:r>
              <a:rPr b="0" lang="en-A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go back to your wiki and go to the resources page where you will find the activity that you need to d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n instructions page for the activity that you will want to print out, to help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illips, G et al, 2004, Sci3, Pearson Education Australia, Sydne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biology4kid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ie Meszes</cp:lastModifiedBy>
  <dcterms:modified xsi:type="dcterms:W3CDTF">2009-04-30T05:23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